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585-49A9-4620-808E-1FAA5739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7C0-2F8C-4332-89D9-2612AAF9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2FE-B599-4787-B6A6-F4FB66C3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10F-C066-40AE-8A89-A823106B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B3E-0141-4468-8C28-1CA240E6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AB8-EB0E-4623-B318-4E4C50B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546-E7BD-43E9-B0B1-A2EA7EE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9AA-9EFE-449E-BEF2-C8A0B1F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2C7-B3DC-426A-B7D4-1C8BFEE1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BE8-2EA1-4936-9089-0ABD224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FE5-B344-4C91-B59A-7EB2CC6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69D-50FE-4C33-8582-8B4AE7E1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35BF-902F-47AC-BA2D-3234DDB1B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543-DACC-458E-924F-C3CD43C8D2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0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352 New &amp; In Progress, 183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4 = 210,5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3,430 New &amp; In Progress, 279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447920"/>
          <a:ext cx="51814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1814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2F6-6204-4C67-811D-E86692BF4A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0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38200"/>
          <a:ext cx="7934040" cy="42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38200"/>
                    <a:ext cx="793404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442 New &amp; In Progress ERCOT Issues, 78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D15-EADC-40D2-9748-2087D5BE17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0-01-0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1447920"/>
          <a:ext cx="74199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199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627-B9BE-4D44-9103-F414B35FF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880272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4C7-659D-4668-9D21-7DB245211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680" y="1309680"/>
            <a:ext cx="915336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247-FCC4-4FAF-8D41-3CE2BAC9A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F7B-774E-4225-855A-8A50BE0A2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766-EF02-410E-8ACF-3736AA215C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ed in ERCOT systems.  The Service Order Statuses that are considered Canceled are:  Cance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nually or concurrent processing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celed by Customer Request, Canceled by Customer Objection, Canceled Permit Not Received, Canceled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FasTrak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2C0-9DDA-4D7D-89B0-8A2DE9C32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05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above includes only data since TX SET 2.0 Implementation – due to changes in cancell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20/04 date with high totals represents a fix to the reporting and “catching up” of th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317600"/>
            <a:ext cx="8305920" cy="37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E1A-BD2C-4A96-A8CF-83599A7851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429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FF0-28A1-44F1-81BC-3BBD8EA67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0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34080" y="13716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371600"/>
          <a:ext cx="540072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4007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791320" y="3962520"/>
            <a:ext cx="30477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548 New and In Progress Non-ERCOT issues, 10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ED7-280F-4AE6-9FDF-9C4A6BEF9E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0-07T22:16:13Z</dcterms:modified>
  <cp:revision>4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